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4.png" ContentType="image/png"/>
  <Override PartName="/ppt/media/image34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3 - </a:t>
            </a:r>
            <a:fld id="{AFE80648-53A2-4F37-AD92-B9A15066F0E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0  and 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for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3352680"/>
          <a:ext cx="2806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2806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362480" y="327672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garithm is an expon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f the following to a logarithmic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16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87692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1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01 = 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75640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 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480" y="2909880"/>
            <a:ext cx="8384400" cy="1740960"/>
            <a:chOff x="609480" y="2909880"/>
            <a:chExt cx="8384400" cy="1740960"/>
          </a:xfrm>
        </p:grpSpPr>
        <p:grpSp>
          <p:nvGrpSpPr>
            <p:cNvPr id="132" name=""/>
            <p:cNvGrpSpPr/>
            <p:nvPr/>
          </p:nvGrpSpPr>
          <p:grpSpPr>
            <a:xfrm>
              <a:off x="2209680" y="3124080"/>
              <a:ext cx="6784200" cy="533520"/>
              <a:chOff x="2209680" y="3124080"/>
              <a:chExt cx="6784200" cy="533520"/>
            </a:xfrm>
          </p:grpSpPr>
          <p:sp>
            <p:nvSpPr>
              <p:cNvPr id="133" name=""/>
              <p:cNvSpPr/>
              <p:nvPr/>
            </p:nvSpPr>
            <p:spPr>
              <a:xfrm>
                <a:off x="5073120" y="3124080"/>
                <a:ext cx="39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he exponent is the logarithm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209680" y="3352680"/>
                <a:ext cx="2895840" cy="304920"/>
                <a:chOff x="2209680" y="3352680"/>
                <a:chExt cx="2895840" cy="3049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2209680" y="335268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5288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20968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609480" y="2909880"/>
              <a:ext cx="8153640" cy="1740960"/>
              <a:chOff x="609480" y="2909880"/>
              <a:chExt cx="8153640" cy="1740960"/>
            </a:xfrm>
          </p:grpSpPr>
          <p:sp>
            <p:nvSpPr>
              <p:cNvPr id="139" name=""/>
              <p:cNvSpPr/>
              <p:nvPr/>
            </p:nvSpPr>
            <p:spPr>
              <a:xfrm>
                <a:off x="685800" y="3622680"/>
                <a:ext cx="8077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)  16 = </a:t>
                </a:r>
                <a:r>
                  <a:rPr b="0" lang="en-US" sz="28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 baseline="30000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log</a:t>
                </a:r>
                <a:r>
                  <a:rPr b="0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6 = </a:t>
                </a:r>
                <a:r>
                  <a:rPr b="0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57040" y="4038120"/>
                <a:ext cx="6554520" cy="612720"/>
                <a:chOff x="2057040" y="4038120"/>
                <a:chExt cx="6554520" cy="612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064480" y="4191120"/>
                  <a:ext cx="354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ff"/>
                      </a:solidFill>
                      <a:latin typeface="Times New Roman"/>
                    </a:rPr>
                    <a:t>The base remains the same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2057040" y="4038120"/>
                  <a:ext cx="3048120" cy="381600"/>
                  <a:chOff x="2057040" y="4038120"/>
                  <a:chExt cx="3048120" cy="3816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>
                    <a:off x="2057040" y="4419720"/>
                    <a:ext cx="3048120" cy="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2057400" y="403812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038480" y="411444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6" name=""/>
              <p:cNvSpPr/>
              <p:nvPr/>
            </p:nvSpPr>
            <p:spPr>
              <a:xfrm>
                <a:off x="609480" y="2909880"/>
                <a:ext cx="156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olution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f the following to an exponential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87692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  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75640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2909880"/>
            <a:ext cx="8384400" cy="1740960"/>
            <a:chOff x="609480" y="2909880"/>
            <a:chExt cx="8384400" cy="1740960"/>
          </a:xfrm>
        </p:grpSpPr>
        <p:grpSp>
          <p:nvGrpSpPr>
            <p:cNvPr id="152" name=""/>
            <p:cNvGrpSpPr/>
            <p:nvPr/>
          </p:nvGrpSpPr>
          <p:grpSpPr>
            <a:xfrm>
              <a:off x="2666880" y="3124080"/>
              <a:ext cx="6327000" cy="533520"/>
              <a:chOff x="2666880" y="3124080"/>
              <a:chExt cx="6327000" cy="533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073120" y="3124080"/>
                <a:ext cx="39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he logarithm is the exponent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666880" y="3352680"/>
                <a:ext cx="2438640" cy="304920"/>
                <a:chOff x="2666880" y="3352680"/>
                <a:chExt cx="2438640" cy="304920"/>
              </a:xfrm>
            </p:grpSpPr>
            <p:sp>
              <p:nvSpPr>
                <p:cNvPr id="155" name=""/>
                <p:cNvSpPr/>
                <p:nvPr/>
              </p:nvSpPr>
              <p:spPr>
                <a:xfrm flipH="1">
                  <a:off x="2666880" y="3352680"/>
                  <a:ext cx="24386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0676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66688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"/>
            <p:cNvGrpSpPr/>
            <p:nvPr/>
          </p:nvGrpSpPr>
          <p:grpSpPr>
            <a:xfrm>
              <a:off x="609480" y="2909880"/>
              <a:ext cx="8153640" cy="1740960"/>
              <a:chOff x="609480" y="2909880"/>
              <a:chExt cx="8153640" cy="17409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5800" y="3622680"/>
                <a:ext cx="8077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) lo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2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2 =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8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 baseline="30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3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688760" y="4038120"/>
                <a:ext cx="6922800" cy="612720"/>
                <a:chOff x="1688760" y="4038120"/>
                <a:chExt cx="6922800" cy="612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064480" y="4191120"/>
                  <a:ext cx="354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ff"/>
                      </a:solidFill>
                      <a:latin typeface="Times New Roman"/>
                    </a:rPr>
                    <a:t>The base remains the same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1688760" y="4038120"/>
                  <a:ext cx="3429000" cy="381600"/>
                  <a:chOff x="1688760" y="4038120"/>
                  <a:chExt cx="3429000" cy="3816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>
                    <a:off x="1688760" y="4419720"/>
                    <a:ext cx="3429000" cy="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4241880" y="403812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1701720" y="411444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09480" y="2909880"/>
                <a:ext cx="156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olution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of the following common logarithms on a calculator. Round to four decimal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og 645,77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 0.00002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4800600"/>
            <a:ext cx="8077320" cy="779400"/>
            <a:chOff x="457200" y="4800600"/>
            <a:chExt cx="8077320" cy="779400"/>
          </a:xfrm>
        </p:grpSpPr>
        <p:sp>
          <p:nvSpPr>
            <p:cNvPr id="170" name=""/>
            <p:cNvSpPr/>
            <p:nvPr/>
          </p:nvSpPr>
          <p:spPr>
            <a:xfrm>
              <a:off x="457200" y="48769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 log 0.0000239                                             –4.62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3124080" y="4800600"/>
              <a:ext cx="3657600" cy="77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457200" y="5715000"/>
            <a:ext cx="8305920" cy="762120"/>
            <a:chOff x="457200" y="5715000"/>
            <a:chExt cx="8305920" cy="762120"/>
          </a:xfrm>
        </p:grpSpPr>
        <p:sp>
          <p:nvSpPr>
            <p:cNvPr id="173" name=""/>
            <p:cNvSpPr/>
            <p:nvPr/>
          </p:nvSpPr>
          <p:spPr>
            <a:xfrm>
              <a:off x="457200" y="5867280"/>
              <a:ext cx="8305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) log (–3)                                                Does not exis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2514600" y="5715000"/>
              <a:ext cx="3728880" cy="7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533520" y="2819520"/>
            <a:ext cx="8229600" cy="1066680"/>
            <a:chOff x="533520" y="2819520"/>
            <a:chExt cx="8229600" cy="1066680"/>
          </a:xfrm>
        </p:grpSpPr>
        <p:sp>
          <p:nvSpPr>
            <p:cNvPr id="176" name=""/>
            <p:cNvSpPr/>
            <p:nvPr/>
          </p:nvSpPr>
          <p:spPr>
            <a:xfrm>
              <a:off x="685800" y="28195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32767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unction Valu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adou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ound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815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200" y="3792600"/>
            <a:ext cx="8077320" cy="931680"/>
            <a:chOff x="457200" y="3792600"/>
            <a:chExt cx="8077320" cy="931680"/>
          </a:xfrm>
        </p:grpSpPr>
        <p:sp>
          <p:nvSpPr>
            <p:cNvPr id="180" name=""/>
            <p:cNvSpPr/>
            <p:nvPr/>
          </p:nvSpPr>
          <p:spPr>
            <a:xfrm>
              <a:off x="457200" y="388620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) log 645,778                                                   5.81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124080" y="3792600"/>
              <a:ext cx="3649680" cy="93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oga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hms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atural logarith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bbreviation “ln” is generally used for natural logarithms. Th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s     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n 1 = 0  and 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for the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of the following natural logarithms on a calculator. Round to four decimal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n 645,77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n 0.00002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 l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33520" y="3276720"/>
            <a:ext cx="8229600" cy="1066680"/>
            <a:chOff x="533520" y="3276720"/>
            <a:chExt cx="8229600" cy="1066680"/>
          </a:xfrm>
        </p:grpSpPr>
        <p:sp>
          <p:nvSpPr>
            <p:cNvPr id="187" name=""/>
            <p:cNvSpPr/>
            <p:nvPr/>
          </p:nvSpPr>
          <p:spPr>
            <a:xfrm>
              <a:off x="685800" y="32767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520" y="37339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unction Valu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adou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ound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520" y="4191120"/>
              <a:ext cx="815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" y="4392720"/>
            <a:ext cx="8077320" cy="788760"/>
            <a:chOff x="457200" y="4392720"/>
            <a:chExt cx="8077320" cy="788760"/>
          </a:xfrm>
        </p:grpSpPr>
        <p:sp>
          <p:nvSpPr>
            <p:cNvPr id="191" name=""/>
            <p:cNvSpPr/>
            <p:nvPr/>
          </p:nvSpPr>
          <p:spPr>
            <a:xfrm>
              <a:off x="457200" y="4495680"/>
              <a:ext cx="8077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) ln 645,778                                                    13.378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2819520" y="4392720"/>
              <a:ext cx="3612960" cy="78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457200" y="5562720"/>
            <a:ext cx="8077320" cy="796680"/>
            <a:chOff x="457200" y="5562720"/>
            <a:chExt cx="8077320" cy="796680"/>
          </a:xfrm>
        </p:grpSpPr>
        <p:sp>
          <p:nvSpPr>
            <p:cNvPr id="194" name=""/>
            <p:cNvSpPr/>
            <p:nvPr/>
          </p:nvSpPr>
          <p:spPr>
            <a:xfrm>
              <a:off x="457200" y="571500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 ln 0.0000239                                             –10.64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2895480" y="5562720"/>
              <a:ext cx="3657600" cy="79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1143000"/>
            <a:ext cx="8229600" cy="1066680"/>
            <a:chOff x="457200" y="1143000"/>
            <a:chExt cx="8229600" cy="1066680"/>
          </a:xfrm>
        </p:grpSpPr>
        <p:sp>
          <p:nvSpPr>
            <p:cNvPr id="198" name=""/>
            <p:cNvSpPr/>
            <p:nvPr/>
          </p:nvSpPr>
          <p:spPr>
            <a:xfrm>
              <a:off x="609480" y="114300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160020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unction Valu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adou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ound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2057400"/>
              <a:ext cx="815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200" y="5486400"/>
            <a:ext cx="8305920" cy="838080"/>
            <a:chOff x="457200" y="5486400"/>
            <a:chExt cx="8305920" cy="838080"/>
          </a:xfrm>
        </p:grpSpPr>
        <p:sp>
          <p:nvSpPr>
            <p:cNvPr id="202" name=""/>
            <p:cNvSpPr/>
            <p:nvPr/>
          </p:nvSpPr>
          <p:spPr>
            <a:xfrm>
              <a:off x="457200" y="5715000"/>
              <a:ext cx="8305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) ln 1                                                     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2743200" y="5486400"/>
              <a:ext cx="3693960" cy="7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457200" y="3962520"/>
            <a:ext cx="8077320" cy="895320"/>
            <a:chOff x="457200" y="3962520"/>
            <a:chExt cx="8077320" cy="895320"/>
          </a:xfrm>
        </p:grpSpPr>
        <p:sp>
          <p:nvSpPr>
            <p:cNvPr id="205" name=""/>
            <p:cNvSpPr/>
            <p:nvPr/>
          </p:nvSpPr>
          <p:spPr>
            <a:xfrm>
              <a:off x="457200" y="41911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 l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666880" y="3962520"/>
              <a:ext cx="372132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457200" y="2590920"/>
            <a:ext cx="8381880" cy="779400"/>
            <a:chOff x="457200" y="2590920"/>
            <a:chExt cx="8381880" cy="779400"/>
          </a:xfrm>
        </p:grpSpPr>
        <p:sp>
          <p:nvSpPr>
            <p:cNvPr id="208" name=""/>
            <p:cNvSpPr/>
            <p:nvPr/>
          </p:nvSpPr>
          <p:spPr>
            <a:xfrm>
              <a:off x="457200" y="276084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) ln (–5)                                                   Does not exis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3639960" cy="75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anging Logarithmic Ba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696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e-of-Bas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logarithmic ba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ny positiv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048120" y="3733920"/>
          <a:ext cx="256536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733920"/>
                    <a:ext cx="256536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2479320"/>
            <a:ext cx="73152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we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. Then we substitute into the change-of-base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429000" y="4280040"/>
          <a:ext cx="220968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280040"/>
                    <a:ext cx="22096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926640" y="1600200"/>
            <a:ext cx="56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using common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61976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8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37040" y="4381560"/>
          <a:ext cx="31114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7040" y="4381560"/>
                    <a:ext cx="3111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54000" y="1197000"/>
            <a:ext cx="593064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use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co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using natural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 of Logarithmic Function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1933560"/>
            <a:ext cx="5029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295360" cy="416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876920" y="3495600"/>
            <a:ext cx="3443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33560"/>
            <a:ext cx="81532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raphing calculator. First change 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3378240"/>
          <a:ext cx="350496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78240"/>
                    <a:ext cx="35049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778280" y="3200400"/>
            <a:ext cx="4365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33560"/>
            <a:ext cx="81532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s which graph inverses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429000"/>
            <a:ext cx="38862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graphs of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ts inver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724280" y="3330720"/>
            <a:ext cx="42674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each of the following. Describe how each graph can be obtained from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Give the domain and the vertical asymptote of each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l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)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708280" y="3360600"/>
          <a:ext cx="2714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8280" y="3360600"/>
                    <a:ext cx="271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6720" y="205740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574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676680" y="2066760"/>
          <a:ext cx="11412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6680" y="206676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857840" y="2428920"/>
            <a:ext cx="3828960" cy="3971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shift 3 units left. The domain is the set of all real numbers greater than –3, (–3, ∞). The lin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3 is the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2303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038480" y="3220920"/>
            <a:ext cx="3748320" cy="3586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 –   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vertical shrinking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llowed by a reflection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nd a translation up 3 units. The domain is the set of all positive real numbers, (0, ∞).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is the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781360" y="990720"/>
          <a:ext cx="271440" cy="55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1360" y="990720"/>
                    <a:ext cx="2714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914400" y="3505320"/>
            <a:ext cx="18464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)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transl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ight 1 unit. The effect of the absolute is to reflect the negative output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 The domain is the set of all positive real numbers greater than 1, (1, ∞).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1 is the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838160" cy="2886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3613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tudy by psychologists Bornstein and Bornstein, it was found that the average walking spe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feet per second, of a person living in a city of popu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ousands, is given by th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37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of Hartford, Connecticut, is 124,848. Find the average walking speed of people living in Har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buClr>
                <a:srgbClr val="000000"/>
              </a:buClr>
              <a:buSzPct val="75000"/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of San Antonio, Texas, is 1,236,249. Find the average walking speed of people living in San Anto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buClr>
                <a:srgbClr val="000000"/>
              </a:buClr>
              <a:buSzPct val="75000"/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ociologist computes the average walking speed in a city to the approximately 2.0 ft/sec. Use this information to estimate the population of the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thousands and 124,848 = 124.848 thousand, we substitute 124.848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ubstitute 1236.249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36.24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37 l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36.249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7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 walking speed of people living in San Antonio is about 2.7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05320" y="848196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4.8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37 l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4.84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 walking speed of people living in Hartford is about 1.8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3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Functions and 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common logarithms and natural logarithms with and without a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between exponential and logarithmic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logarithmic 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logarithm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logarithm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Graph with a viewing window [0, 600, 0, 4] because inputs are very large and outputs are very small by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5320" y="848196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62320" y="2139840"/>
            <a:ext cx="51022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To find the population for which the walking speed is 2.0 ft/sec, we substitute 2.0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7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0.05, and 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5320" y="848196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2286000"/>
            <a:ext cx="7086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sec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7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0.05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120" y="3335400"/>
            <a:ext cx="4227480" cy="3294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105520" y="4114800"/>
            <a:ext cx="37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city with an average walking speed of 2.0 ft/sec, the population is about 194.5 thousand or 194,5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functions are inverses of exponential functions. We can draw the graph of the inverse of an exponential function by interchang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raph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680080"/>
            <a:ext cx="80773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Note that the curve does not touch or 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699000"/>
            <a:ext cx="71629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the points and connect them with a smooth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14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679400"/>
            <a:ext cx="3173400" cy="479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1000" y="2438280"/>
            <a:ext cx="434808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24320" y="1662120"/>
            <a:ext cx="5567400" cy="4815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82880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urve looks like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lected across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s we would expect for an inverse. The inve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Function, Base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at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sitive constant other than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ad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“the logarithm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nding Certain Logarithm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of the following loga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3124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onent to which we raise 10 to obtain 10,000 is 4;  thus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000 =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5627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onent to which we raise 10 to get 0.01 is –2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1 = –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800" y="4648320"/>
            <a:ext cx="8077320" cy="838080"/>
            <a:chOff x="685800" y="4648320"/>
            <a:chExt cx="8077320" cy="838080"/>
          </a:xfrm>
        </p:grpSpPr>
        <p:sp>
          <p:nvSpPr>
            <p:cNvPr id="109" name=""/>
            <p:cNvSpPr/>
            <p:nvPr/>
          </p:nvSpPr>
          <p:spPr>
            <a:xfrm>
              <a:off x="685800" y="4863960"/>
              <a:ext cx="8077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hav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743200" y="4648320"/>
            <a:ext cx="353052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4648320"/>
                      <a:ext cx="35305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:  The exponent to which we raise 2 to get 8 is 3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=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685800" y="2438280"/>
            <a:ext cx="8077320" cy="1219320"/>
            <a:chOff x="685800" y="2438280"/>
            <a:chExt cx="8077320" cy="1219320"/>
          </a:xfrm>
        </p:grpSpPr>
        <p:sp>
          <p:nvSpPr>
            <p:cNvPr id="117" name=""/>
            <p:cNvSpPr/>
            <p:nvPr/>
          </p:nvSpPr>
          <p:spPr>
            <a:xfrm>
              <a:off x="685800" y="2438280"/>
              <a:ext cx="8077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) log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:                         The exponent to which we raise 9 to get 3 is 1/2; thus log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 = 1/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2286000" y="2502000"/>
            <a:ext cx="1968480" cy="4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2502000"/>
                      <a:ext cx="196848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"/>
          <p:cNvSpPr/>
          <p:nvPr/>
        </p:nvSpPr>
        <p:spPr>
          <a:xfrm>
            <a:off x="685800" y="3733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:  1 =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exponent to which we raise 6 to get 1 is 0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02920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:  8 =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exponent to which we raise 8 to get 8 is 4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20:17:48Z</dcterms:modified>
  <cp:revision>246</cp:revision>
  <dc:subject/>
  <dc:title>No Slide Title</dc:title>
</cp:coreProperties>
</file>